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F6CA-A040-4C13-8906-7C60E343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8302-EA2C-4B8A-9117-34C6F387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CCC16-2F47-45B7-B598-A6DE8F4D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5ADC0-B2F1-435A-B884-A9FB4186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09984-13F3-4606-A087-234FFB89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2FCE7-8D4D-442F-B7DF-6D450BD7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85644-CD80-49B5-ABCF-55C28DC2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7E5B4-A442-4A9C-8CA6-891393C0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5479D-3C0B-458F-85DB-566B01E7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9A654-7A19-4B05-BDAC-829D9DC2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EC049-4B94-47CE-9144-047D135F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BFD8F-EEA6-4678-A71A-E5E240D2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0E81-B36D-40C3-8520-5C999849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AAA80-C759-4D2B-9653-CB87F0C1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742C8-2624-4EF8-AFA6-16A21B5F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2A4E4-0933-4EF8-9C32-3CB72A88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2F472-DFA2-460A-9C1C-3403AA67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788C2-BFD3-41BF-941A-4F1BB425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35889-D24D-40E7-A360-D7EB73D8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13243-E3B0-4593-8AA3-5FEFB64E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F2AFC-7EA8-41A0-9C38-FF61900D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3D4D8-9599-4E63-ADEB-9B701B2B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50F3B-BF2F-445A-A2FF-BE2D0E35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99A2-C70F-448A-A665-AE38FC18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4B191-1E8D-4F77-90FA-34017C72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5551B-D953-4417-93B5-154FD137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52E7C-B7CA-49E9-B3AB-5DC1FFCC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5B8C3-C4E0-47DF-B18A-7F14F3B9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10F6B-3168-45CA-8DCF-A1D23A98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4473F-9969-424A-961A-0931D169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6974F-B094-4DD9-9F41-E1247EB2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CEAAB-D9A9-4B56-B022-BF002F82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045DF-0339-4104-8652-75DAA394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68F66-154E-4FC3-892A-46E1FDB2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99B8-A93B-49C7-BF12-B4281628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9EE1D-6C8F-4FC8-B96D-8F449885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AC06C-B734-4195-9728-A9814140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854E0-CFE1-410E-B2C7-A5FC899B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2D7CD-771C-4040-83B5-EA86B38A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F2498-6438-46B0-8AD8-0F8956D7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9E2D2-8117-47B5-B212-37C7084E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2C837-0220-489B-884C-EF798D2D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95F78-DD12-43D1-92D9-37C30734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CF845-A66F-4A7F-BFF4-0788EB6A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B20AF-BACA-4FE3-8C80-DD198AF3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688A-9E76-43A9-B811-7249E304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84B62-D8C7-4B25-BF3E-C711E5E7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811C2-9055-4925-AC80-6FEE7483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6DEAC-4D83-45CF-9A1F-2297434A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8DBE1-4CFF-4532-BE74-7D5AFDD8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8735A-1271-4AEE-BAEF-29A6E725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A389-A73F-4343-AA77-08F32118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58F5-E5C7-4E81-8498-2C1E8462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9527-C53B-4101-AA9F-F19CDBC0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8B09-C802-4942-B7A8-9810675D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FBA9-0B9F-49CC-A131-2E17991E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814A-A75D-48D1-A566-00B9A89E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888B-D422-43FD-9CD0-41B8C25D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BED6-5325-4326-A82A-B87CAA22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53CB-2D75-43DF-B080-F4B39EE2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9303-D59E-4710-B02E-E983357F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37DC-2E86-4692-ADF8-B9A02687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C9215-32F7-43B7-8183-6F87B5EE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3CDDB-D288-4B86-80A5-9F10E983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BBA83-0A27-489C-827B-4FB762B3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805C9-C9F7-453D-BD21-033B0AB1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436C4-3976-40E4-80B2-B5E8DA04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2359-90DE-43C8-A0B3-471C6BBF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CED4A-A26E-4D6C-8C86-6C389F4F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8E538-FD16-46C0-A490-9ADCF006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36933-A82A-4B87-95D6-3C1963E3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A5DB5-3485-4B21-98D0-196B7426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368AD-71E3-4E4F-ADF2-A14AA80C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04F21-03E3-4EBB-9122-EDA57F06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61B9C-3A52-4B77-BF2E-11DA8705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7F47C-24BF-4252-A376-F7FA00D6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1F283-5CE3-4DA6-ADCB-C43721D9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F546B-9898-4DD3-94B6-6A4CE034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200B-739A-4E65-A656-6EFF33D8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3384A-71E6-431C-BCCB-F026442C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DFC52-A508-474A-9C2E-91C68FBD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35AB5-C05A-4805-8204-C5999CE1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29BF1-39BF-4480-97A6-4FC1BCF7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602D4-5D8A-4E1D-8460-819FDCBE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85E8B-2710-484D-AE91-A2773E66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01DB2-A740-4578-8854-E91AECA9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EAB4C-BA0A-4924-99C3-BBE773FC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2C28A-F10D-47AF-B993-53F2152E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340B1-121E-4D53-8F8B-7678E1FF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9EC0-31A3-4BF3-934C-AE9B1A19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33F31-795D-43BC-BB31-122BFC96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401B7-595D-40D5-8D7A-50F5C5AA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EA136-4693-4E63-B705-5CCA2EB0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7F4A1-2066-472C-84A4-DCCF3541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C0E02-AE12-49B7-97C3-9C472658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192FB-3584-44C0-A5A7-96C49B05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7FE2B-AD62-484F-BA5F-7C48F5E3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E41E1-7B9F-465E-A6DB-77A8E5C3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97E4D-82EA-4639-BE68-358DC31B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5BA9C-E1D0-4F36-BBB7-7E30DB92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00C3-8558-4CAC-ACBF-764BAD52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B7477-0F88-480C-980B-248467B8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5A3BC-AD09-43E7-88F6-C3C724D3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E751D-BB09-4F3B-B09A-A22D442A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6B213-6B2D-412E-B56C-7FC94C47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4080D-ECF9-42AB-A920-1DF3D82D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6BC46-FEED-4FB7-8605-04905BD0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F551B-11E5-458C-A1CF-42FA7E42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8F064-EF6E-494A-BEA5-3C9C1343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45DBD-4F41-431C-B0B3-02B3F2EC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327CD-5AB9-4987-94FC-1EDD6934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C4F7-D611-4A91-A506-BB51FCB0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11EB1-2138-489B-9C5D-646AE49C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C6FF0-00DB-4335-90A0-9236FF61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4EB5E-E52A-4E82-B285-D43B2178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0342B-D98A-4F91-AEA0-35280E6F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D9CFB-F63C-4E5A-B9D7-48C14BEB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3693D-8CAA-467F-B3BC-76370A7B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83E06-FA21-4ABB-AA5E-99430B86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3685C-0B91-4B6C-8ECB-1D5FE3D9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3C28C-4F52-4E5A-AC19-6BB5B9D3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0EC32-B760-4E6D-9643-613D80C3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30D6-094C-44BF-8B0A-AF6ACF4E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C353E-1D24-4E85-BCE8-BFE77DDA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723A4-106D-4E31-93EB-C938967B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922F0-F056-4689-B2A1-E59E621B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11A50-6F88-424C-9C25-31B7FBB4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791B0-06F6-4F07-B9CB-ADAB404D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ED871-CD6E-4F1F-9340-6EA0D7CB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4958E-C811-4C14-85E9-29ED285C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30EC6-D06B-412F-9B6D-F8061385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53AEC-F80C-4063-BEA5-A059628D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A162C-F746-4F53-9743-42CB7F3B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27EC-8686-4921-A5D7-D093D050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75EB3-EAD3-40A7-B820-FC8968CB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85F7C-057F-4BCC-BF29-C6760FD7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EE2EB-D3FB-430C-853C-672C5768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69378-94B6-4702-AC0B-C899FE5B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F05D4-255B-46A9-9AFA-EF20A878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0AD6E-AB0E-493D-97C7-9E5DD9D0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1BCAE-B506-40EE-9906-00E63181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A5856-8E90-4A64-B1E2-D58D3B4C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EC4A6-87BA-4CC6-97E4-F7DF9DB3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B73BC-32EC-480B-898C-A9940BBC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D869-830C-4BA5-AE6F-1750839603C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7AC0-5021-4B4B-9071-AFC42420AEB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2410-C640-4ADF-9CDB-D15320647A5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C34D-C55C-410A-B78A-A08398CE137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1AF3-FCFC-4675-AB8A-DF333022DFA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F705-FE31-467A-BFF8-EEAD0F010AE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7B90-8257-401A-8932-1C5DBF2023B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3098-9043-4513-9FC0-82180D35063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DB98-B16D-4E66-9A89-60940173552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4068-02AB-4CA5-957F-5BC0CAEE964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7E43-E767-4A67-B94D-272D5ECB1D2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52D1-48C1-4909-BF4F-7A38543A7B6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75 Keď sa Kristu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zem vrá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a Kristus na zem vrá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úžbu mám ho uvidie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zrieť toho, ktorý z lásk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mňa ochotný bol mrie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o jasná slnka žiar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vieť sa bude jeho tvár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ja budem česť mu vzdáv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prevzácny spásy d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nes ho vidím iba vier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ávoj hriechu delí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 však, že už skoro pôjd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ním do jeho ríše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o jasná slnka žiar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vieť sa bude jeho tvár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ja budem česť mu vzdáv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prevzácny spásy d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mi večnú radosť sľúbi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m, kde žialiť nebud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ého, čo tu ma tráp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zbaví ma sám on, v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o jasná slnka žiar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vieť sa bude jeho tvár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ja budem česť mu vzdáv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prevzácny spásy d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vidím raz Spasiteľ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ým sa teším nocou, dň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luje ma večnou lásk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ť, pokoj mám len v ň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o jasná slnka žiar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vieť sa bude jeho tvár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ja budem česť mu vzdáv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prevzácny spásy dar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6:39:31Z</dcterms:created>
  <dc:creator>MD</dc:creator>
  <dc:description/>
  <dc:language>en-US</dc:language>
  <cp:lastModifiedBy>DUMAS Ing. Dušan Bielik</cp:lastModifiedBy>
  <dcterms:modified xsi:type="dcterms:W3CDTF">2025-01-06T18:37:39Z</dcterms:modified>
  <cp:revision>7</cp:revision>
  <dc:subject/>
  <dc:title>Bez nadpisu</dc:title>
</cp:coreProperties>
</file>